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9BCB-AC06-44A2-A93B-BE0EC726E5FD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8360-061D-42BF-A0C6-4B28B13F216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E8C-0142-4EAD-B179-B218F15C456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arthdata.nasa.gov/about-eosdis/interfaces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Agency Requirement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NASA Data Management Plan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addition to Federal-level requirements, NASA and other agencies have their own requirements and directives, which augment higher level mandates and provide specific guidance in meeting the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Centers, grantees and contractors receiving NASA funding must manage environmental data in compliance with these requirements and directiv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Earth Science data management practices are generally spelled out in grant and contract docu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policy on dissemination and sharing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-2559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policy is very clear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SA commits to the full and open sharing of Earth science data obtained from NASA Earth observing satellites, sub-orbital platforms and field campaigns with all users as soon as such data become available”* 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re will be no period of exclusive access to NASA Earth science data.  Following a post-launch checkout period, all data will be made available to the user community”*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3360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*</a:t>
            </a: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http://nasascience.nasa.gov/earth-science/earth-science-data/data-information-policy/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NASA Data Management Plans (DMP)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n the Earth sciences specific requirements for data management plans are described in funding documents such as the annual ROSES call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4516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NASA in general requires a data management plan for satellite, airborne, and field project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ASA Earth Science Data and Information System (ESDIS) has established a process for managing flight (space, airborne) projects.  A high level description can be found at: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about-eosdis/interface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he specific document that describes data management plan requirements in the above process is called the Archiving, Distribution and User Services Requirements in EOSDIS (ADURD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ASA references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about-eosdis/interface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http://science.nasa.gov/earth-science/earth-science-data/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50560" indent="-2505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veral websites offer links to more general data management plan development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http://esip.esipfed.org/resourc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gital Curation Centre Plans (Useful checklist for developing a data management plan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dcc.ac.uk/resources/data-management-pla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niversity of California Curation Center (Data Planning Checklist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cdlib.org/services/uc3/datamanagement/index.htm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Management and Publishing (MIT) http://libraries.mit.edu/guides/subjects/data-management/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ata Management and Publishing (Univ of Minneso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-2502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ttp://www.lib.umn.edu/datamanagement/funding#What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2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B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n Weaver</cp:lastModifiedBy>
  <dcterms:modified xsi:type="dcterms:W3CDTF">2012-02-26T15:50:03Z</dcterms:modified>
  <cp:revision>42</cp:revision>
  <dc:subject/>
  <dc:title>ESIP Federation 101</dc:title>
</cp:coreProperties>
</file>